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945B-7EC4-4685-96ED-7830D6FEA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3142-107E-4A21-A542-31DE691E8274}" type="slidenum">
              <a:rPr b="0" lang="en-US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eek – Image Sha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0033-BEEF-411E-8C1F-A7A9CBFB1689}" type="slidenum">
              <a:rPr b="0" lang="en-US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ECDD-7423-4A6E-8457-7752EF443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913E-CB10-4D66-9943-09664601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5B36-C6FA-48D5-B1B2-A0850194F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7F90-25B4-4B3D-918C-02BA9A6FF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8161F-0E78-489A-8FAA-8875F6D5B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BB22-1A04-41C0-984A-163A9863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556F1-F913-4B06-9FBA-F08F18CD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EC9CC-E9A5-48BD-8DEE-FC39F35E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BF5D-1544-4DEC-BF87-6A54D3FF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F3B6-0304-4A15-A62D-3B59B0AE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92EF6-0EF4-494A-B001-E4A71A11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1479-EF55-4356-A564-F19C3681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EAE1-60F2-4A29-892A-06880DB7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DF1D-FEA5-4ED2-B6EF-FA99D599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47DC-7B41-4595-B2E5-DED9CFCA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8807-828F-4537-9AAE-2D0EC5FA4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EA72-2A4C-419A-99D6-40ED07888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07CD-FAAA-4747-8AF7-C276D7EC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1C30-8306-4FEC-9212-8D9802B8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C233-1044-4600-9CDE-55A8AEB7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EC1F-4CC0-48F6-90AF-FFA5A260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2AC6-7200-4F2D-B85E-E2A9C983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FA70-6AB6-4BC5-B663-92E64183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A8EA-7DAA-4266-88E0-1F1ABF54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3B5C-E096-4A45-A4A4-E851D8BA7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4A87-0950-4862-96CA-5C979DD8428F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What is Web 2.0?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04920" y="4971600"/>
            <a:ext cx="861048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Image Sharing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2895480" y="76320"/>
            <a:ext cx="5391360" cy="388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Sharing Images Online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haring of image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ommon tags categorize related image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Discussion on image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RSS for update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Flickr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Owned by Yahoo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May be privat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nnotations in image (descriptions)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reative commons – may be used for instruction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Photostream in Blo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Picasa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Owned by Googl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May install free program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Photo organization and basic image editin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Embed slideshow in blog, wiki, or other webpag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1T16:56:04Z</dcterms:created>
  <dc:creator>Paul</dc:creator>
  <dc:description/>
  <cp:keywords/>
  <dc:language>en-US</dc:language>
  <cp:lastModifiedBy>MSJ</cp:lastModifiedBy>
  <dcterms:modified xsi:type="dcterms:W3CDTF">2008-07-15T14:54:59Z</dcterms:modified>
  <cp:revision>138</cp:revision>
  <dc:subject/>
  <dc:title>Podcas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41033</vt:lpwstr>
  </property>
</Properties>
</file>